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wmf" ContentType="image/x-wmf"/>
  <Override PartName="/ppt/media/image14.png" ContentType="image/png"/>
  <Override PartName="/ppt/media/image8.wmf" ContentType="image/x-wmf"/>
  <Override PartName="/ppt/media/image12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5.wmf" ContentType="image/x-wmf"/>
  <Override PartName="/ppt/media/image10.png" ContentType="image/png"/>
  <Override PartName="/ppt/media/image13.jpeg" ContentType="image/jpeg"/>
  <Override PartName="/ppt/media/image4.png" ContentType="image/png"/>
  <Override PartName="/ppt/media/image25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9.png" ContentType="image/png"/>
  <Override PartName="/ppt/media/image18.jpeg" ContentType="image/jpeg"/>
  <Override PartName="/ppt/media/image2.wmf" ContentType="image/x-wmf"/>
  <Override PartName="/ppt/media/image23.jpeg" ContentType="image/jpeg"/>
  <Override PartName="/ppt/media/image24.jpeg" ContentType="image/jpeg"/>
  <Override PartName="/ppt/media/image15.png" ContentType="image/png"/>
  <Override PartName="/ppt/media/image3.png" ContentType="image/png"/>
  <Override PartName="/ppt/media/image26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9E9B-1CBA-4165-8CF5-9A94F227B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79320" y="413064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3B98-BBDE-47E1-8E12-9AF541F8D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1D6A-271F-43FB-AB55-C674792C2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0948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3964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7932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0948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3964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A23A-5C02-47FF-80A4-2A89AF8BE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50EEC-5480-4773-9726-9B1F12577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9CC73-F42C-40B2-9D86-821CFD2CF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91A55-70CA-4BEE-AF6E-4496B353E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E6419-3DBB-49E0-9936-13D7309D5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1BF0D-A6AD-4367-A4CF-7D7FAC52A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793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E6D03-A8C0-4462-9FBD-13C4D5B4E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2018D-90D9-4EB2-B320-3A6470AD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92E3-B124-449E-8B10-1CA358CC3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C9C75-899D-4100-98C2-F136E84E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24974-0246-4DDD-82B8-932D9CED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79320" y="413064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048DC-EC80-4ADC-B3F1-4843E66A1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4D342-C834-4FFC-A103-C3EF764BE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0948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3964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7932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0948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3964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17652-576E-4516-908A-F0E2EE167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43C1-0CE3-4857-B4C8-1DEA2FA2C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03FB-C772-4611-8604-3E94A5C00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FF1F-6DB6-41EA-8DDA-B6A575368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793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5F85-7EFB-4DBD-92F2-F8EC22387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AA6F-7CFC-45BD-8BE6-C6E7B144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7E4D-27F9-47CB-ADFC-BDE9EDFE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E7B7-F27A-48E7-AA93-4192A19E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79440" y="303120"/>
            <a:ext cx="8386560" cy="6175440"/>
            <a:chOff x="379440" y="303120"/>
            <a:chExt cx="8386560" cy="6175440"/>
          </a:xfrm>
        </p:grpSpPr>
        <p:sp>
          <p:nvSpPr>
            <p:cNvPr id="1" name=""/>
            <p:cNvSpPr/>
            <p:nvPr/>
          </p:nvSpPr>
          <p:spPr>
            <a:xfrm>
              <a:off x="380880" y="304920"/>
              <a:ext cx="8382240" cy="6172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79440" y="303120"/>
              <a:ext cx="230040" cy="6174000"/>
            </a:xfrm>
            <a:custGeom>
              <a:avLst/>
              <a:gdLst/>
              <a:ahLst/>
              <a:rect l="l" t="t" r="r" b="b"/>
              <a:pathLst>
                <a:path w="145" h="3889">
                  <a:moveTo>
                    <a:pt x="0" y="0"/>
                  </a:moveTo>
                  <a:lnTo>
                    <a:pt x="144" y="144"/>
                  </a:lnTo>
                  <a:lnTo>
                    <a:pt x="144" y="3744"/>
                  </a:lnTo>
                  <a:lnTo>
                    <a:pt x="0" y="3888"/>
                  </a:lnTo>
                  <a:lnTo>
                    <a:pt x="0" y="0"/>
                  </a:lnTo>
                </a:path>
              </a:pathLst>
            </a:custGeom>
            <a:solidFill>
              <a:srgbClr val="0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79440" y="303120"/>
              <a:ext cx="8383680" cy="230400"/>
            </a:xfrm>
            <a:custGeom>
              <a:avLst/>
              <a:gdLst/>
              <a:ahLst/>
              <a:rect l="l" t="t" r="r" b="b"/>
              <a:pathLst>
                <a:path w="5281" h="145">
                  <a:moveTo>
                    <a:pt x="0" y="0"/>
                  </a:moveTo>
                  <a:lnTo>
                    <a:pt x="144" y="144"/>
                  </a:lnTo>
                  <a:lnTo>
                    <a:pt x="5136" y="144"/>
                  </a:lnTo>
                  <a:lnTo>
                    <a:pt x="5280" y="0"/>
                  </a:lnTo>
                  <a:lnTo>
                    <a:pt x="0" y="0"/>
                  </a:lnTo>
                </a:path>
              </a:pathLst>
            </a:custGeom>
            <a:solidFill>
              <a:srgbClr val="0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535960" y="303120"/>
              <a:ext cx="230040" cy="6174000"/>
            </a:xfrm>
            <a:custGeom>
              <a:avLst/>
              <a:gdLst/>
              <a:ahLst/>
              <a:rect l="l" t="t" r="r" b="b"/>
              <a:pathLst>
                <a:path w="145" h="3889">
                  <a:moveTo>
                    <a:pt x="144" y="0"/>
                  </a:moveTo>
                  <a:lnTo>
                    <a:pt x="0" y="144"/>
                  </a:lnTo>
                  <a:lnTo>
                    <a:pt x="0" y="3744"/>
                  </a:lnTo>
                  <a:lnTo>
                    <a:pt x="144" y="3888"/>
                  </a:lnTo>
                  <a:lnTo>
                    <a:pt x="144" y="0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80880" y="6248520"/>
              <a:ext cx="8383680" cy="230040"/>
            </a:xfrm>
            <a:custGeom>
              <a:avLst/>
              <a:gdLst/>
              <a:ahLst/>
              <a:rect l="l" t="t" r="r" b="b"/>
              <a:pathLst>
                <a:path w="5281" h="145">
                  <a:moveTo>
                    <a:pt x="5280" y="144"/>
                  </a:moveTo>
                  <a:lnTo>
                    <a:pt x="5136" y="0"/>
                  </a:lnTo>
                  <a:lnTo>
                    <a:pt x="144" y="0"/>
                  </a:lnTo>
                  <a:lnTo>
                    <a:pt x="0" y="144"/>
                  </a:lnTo>
                  <a:lnTo>
                    <a:pt x="5280" y="144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34960" y="457200"/>
              <a:ext cx="77760" cy="4192560"/>
            </a:xfrm>
            <a:custGeom>
              <a:avLst/>
              <a:gdLst/>
              <a:ahLst/>
              <a:rect l="l" t="t" r="r" b="b"/>
              <a:pathLst>
                <a:path w="49" h="2641">
                  <a:moveTo>
                    <a:pt x="48" y="2640"/>
                  </a:moveTo>
                  <a:lnTo>
                    <a:pt x="0" y="0"/>
                  </a:lnTo>
                  <a:lnTo>
                    <a:pt x="48" y="47"/>
                  </a:lnTo>
                  <a:lnTo>
                    <a:pt x="48" y="264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33520" y="457200"/>
              <a:ext cx="5564160" cy="77760"/>
            </a:xfrm>
            <a:custGeom>
              <a:avLst/>
              <a:gdLst/>
              <a:ahLst/>
              <a:rect l="l" t="t" r="r" b="b"/>
              <a:pathLst>
                <a:path w="3505" h="49">
                  <a:moveTo>
                    <a:pt x="3504" y="48"/>
                  </a:moveTo>
                  <a:lnTo>
                    <a:pt x="1" y="0"/>
                  </a:lnTo>
                  <a:lnTo>
                    <a:pt x="0" y="48"/>
                  </a:lnTo>
                  <a:lnTo>
                    <a:pt x="3504" y="4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81A0E-E556-4A00-95A6-EBA469D90E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379440" y="303120"/>
            <a:ext cx="8386560" cy="6175440"/>
            <a:chOff x="379440" y="303120"/>
            <a:chExt cx="8386560" cy="6175440"/>
          </a:xfrm>
        </p:grpSpPr>
        <p:grpSp>
          <p:nvGrpSpPr>
            <p:cNvPr id="50" name=""/>
            <p:cNvGrpSpPr/>
            <p:nvPr/>
          </p:nvGrpSpPr>
          <p:grpSpPr>
            <a:xfrm>
              <a:off x="379440" y="303120"/>
              <a:ext cx="8386560" cy="6175440"/>
              <a:chOff x="379440" y="303120"/>
              <a:chExt cx="8386560" cy="6175440"/>
            </a:xfrm>
          </p:grpSpPr>
          <p:sp>
            <p:nvSpPr>
              <p:cNvPr id="51" name=""/>
              <p:cNvSpPr/>
              <p:nvPr/>
            </p:nvSpPr>
            <p:spPr>
              <a:xfrm>
                <a:off x="380880" y="304920"/>
                <a:ext cx="8382240" cy="61722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79440" y="303120"/>
                <a:ext cx="230040" cy="6174000"/>
              </a:xfrm>
              <a:custGeom>
                <a:avLst/>
                <a:gdLst/>
                <a:ahLst/>
                <a:rect l="l" t="t" r="r" b="b"/>
                <a:pathLst>
                  <a:path w="145" h="3889">
                    <a:moveTo>
                      <a:pt x="0" y="0"/>
                    </a:moveTo>
                    <a:lnTo>
                      <a:pt x="144" y="144"/>
                    </a:lnTo>
                    <a:lnTo>
                      <a:pt x="144" y="3744"/>
                    </a:lnTo>
                    <a:lnTo>
                      <a:pt x="0" y="38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79440" y="303120"/>
                <a:ext cx="8383680" cy="230400"/>
              </a:xfrm>
              <a:custGeom>
                <a:avLst/>
                <a:gdLst/>
                <a:ahLst/>
                <a:rect l="l" t="t" r="r" b="b"/>
                <a:pathLst>
                  <a:path w="5281" h="145">
                    <a:moveTo>
                      <a:pt x="0" y="0"/>
                    </a:moveTo>
                    <a:lnTo>
                      <a:pt x="144" y="144"/>
                    </a:lnTo>
                    <a:lnTo>
                      <a:pt x="5136" y="144"/>
                    </a:lnTo>
                    <a:lnTo>
                      <a:pt x="528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535960" y="303120"/>
                <a:ext cx="230040" cy="6174000"/>
              </a:xfrm>
              <a:custGeom>
                <a:avLst/>
                <a:gdLst/>
                <a:ahLst/>
                <a:rect l="l" t="t" r="r" b="b"/>
                <a:pathLst>
                  <a:path w="145" h="3889">
                    <a:moveTo>
                      <a:pt x="144" y="0"/>
                    </a:moveTo>
                    <a:lnTo>
                      <a:pt x="0" y="144"/>
                    </a:lnTo>
                    <a:lnTo>
                      <a:pt x="0" y="3744"/>
                    </a:lnTo>
                    <a:lnTo>
                      <a:pt x="144" y="3888"/>
                    </a:lnTo>
                    <a:lnTo>
                      <a:pt x="144" y="0"/>
                    </a:lnTo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80880" y="6248520"/>
                <a:ext cx="8383680" cy="230040"/>
              </a:xfrm>
              <a:custGeom>
                <a:avLst/>
                <a:gdLst/>
                <a:ahLst/>
                <a:rect l="l" t="t" r="r" b="b"/>
                <a:pathLst>
                  <a:path w="5281" h="145">
                    <a:moveTo>
                      <a:pt x="5280" y="144"/>
                    </a:moveTo>
                    <a:lnTo>
                      <a:pt x="5136" y="0"/>
                    </a:lnTo>
                    <a:lnTo>
                      <a:pt x="144" y="0"/>
                    </a:lnTo>
                    <a:lnTo>
                      <a:pt x="0" y="144"/>
                    </a:lnTo>
                    <a:lnTo>
                      <a:pt x="5280" y="144"/>
                    </a:lnTo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534960" y="457200"/>
              <a:ext cx="77760" cy="4192560"/>
            </a:xfrm>
            <a:custGeom>
              <a:avLst/>
              <a:gdLst/>
              <a:ahLst/>
              <a:rect l="l" t="t" r="r" b="b"/>
              <a:pathLst>
                <a:path w="49" h="2641">
                  <a:moveTo>
                    <a:pt x="48" y="2640"/>
                  </a:moveTo>
                  <a:lnTo>
                    <a:pt x="0" y="0"/>
                  </a:lnTo>
                  <a:lnTo>
                    <a:pt x="48" y="47"/>
                  </a:lnTo>
                  <a:lnTo>
                    <a:pt x="48" y="264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457200"/>
              <a:ext cx="5564160" cy="77760"/>
            </a:xfrm>
            <a:custGeom>
              <a:avLst/>
              <a:gdLst/>
              <a:ahLst/>
              <a:rect l="l" t="t" r="r" b="b"/>
              <a:pathLst>
                <a:path w="3505" h="49">
                  <a:moveTo>
                    <a:pt x="3504" y="48"/>
                  </a:moveTo>
                  <a:lnTo>
                    <a:pt x="1" y="0"/>
                  </a:lnTo>
                  <a:lnTo>
                    <a:pt x="0" y="48"/>
                  </a:lnTo>
                  <a:lnTo>
                    <a:pt x="3504" y="4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9DD7F-BA5E-4C02-8657-2FAD86A217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he Great Depression Begi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 HISTORY – Chapters 30-3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he Stock Marke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stock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dividual ownership of a portion (share) of a company that is publicly traded (bought and sol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o you make mone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y low and sell high (difference = profi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y and hold (company value increases over tim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are the risk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insurance or guarantees of retur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The Stock Market Crash – The Final Straw!!!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rules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ulation – buying and selling with the intent of making quick, large prof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ying on margin – buying a stock with a small down payment and borrowing the rest (up to 90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e any problems????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ash – 10/29/29 (16 million shares trade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mid-November investors lost $30 Bill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The Response to the Economic Collapse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rcRect l="14998" t="5999" r="14998" b="10799"/>
          <a:stretch/>
        </p:blipFill>
        <p:spPr>
          <a:xfrm>
            <a:off x="0" y="106200"/>
            <a:ext cx="9144000" cy="67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What would you tell those kids?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4049640" cy="19735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648320" y="1752480"/>
            <a:ext cx="4003560" cy="1755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2819520" y="4724280"/>
            <a:ext cx="4022640" cy="1508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20200" y="3695760"/>
            <a:ext cx="31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NSERVATIVE RESPON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938480" y="3467160"/>
            <a:ext cx="23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IBERAL RESPON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92000" y="6286680"/>
            <a:ext cx="23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ADICAL RESPON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resident Hoover’s Reactio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ilosophical Vi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main optimistic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y lack of confidence in the economic future…..is foolish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gged individualism – succeed through eff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mited government involvement in econom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deral building projects – Boulder D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deral Farm Board – help raise farm pr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onstruction Finance Corp – loan money to banks, industries, etc. (up to $2 bill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he Bonus Arm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I veterans scheduled to receive a ‘bonus’ in 1945 (about $500 each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0,000 march to Washington in 193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WANT OUR BONUS NOW!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eated a shantytown outside of Washingt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Bonus Arm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3200400" cy="3319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645080" y="2577960"/>
            <a:ext cx="3813120" cy="29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361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Bonus Army at the Capitol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900080" y="1981080"/>
            <a:ext cx="523260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nd of the Bonus Arm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over orders them to leave (most obe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000 stay and are removed by US Army with force (gas and bulle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ion is shocked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residential Reactio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78960" y="1981080"/>
            <a:ext cx="3813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O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oluntary cooperation between ban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FC to loan $ to banks, rr, and busin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FC to loan $ to sta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ederal Building Pro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ederal Farm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5080" y="198108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28120" indent="-528120">
              <a:spcBef>
                <a:spcPts val="601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OSEVEL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-528120">
              <a:spcBef>
                <a:spcPts val="601"/>
              </a:spcBef>
              <a:buClr>
                <a:srgbClr val="ffcc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CC – jobs for young men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-528120">
              <a:spcBef>
                <a:spcPts val="601"/>
              </a:spcBef>
              <a:buClr>
                <a:srgbClr val="ffcc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AA – help farm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-528120">
              <a:spcBef>
                <a:spcPts val="601"/>
              </a:spcBef>
              <a:buClr>
                <a:srgbClr val="ffcc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uth-in-Securities – force companies to provide accurate inf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-528120">
              <a:spcBef>
                <a:spcPts val="601"/>
              </a:spcBef>
              <a:buClr>
                <a:srgbClr val="ffcc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ergency Banking Act – help ban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-528120">
              <a:spcBef>
                <a:spcPts val="601"/>
              </a:spcBef>
              <a:buClr>
                <a:srgbClr val="ffcc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ERA - $ to sta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ational Impacts 1929-33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nk Fail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 1933, 6000 banks closed (25% of all bank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 million individual savings accounts l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ufacturing output cut in hal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5,000 businesses went bankru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employ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29 – 3% of eligible workers unemploy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33 – 25% of eligible workers unemploy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maining workers take reduced pay and hou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Impacts – Urban Area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despread homelessnes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eation of shantytowns (Hoovervil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gging, soup kitchens, bread li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truction of famil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iding the rails” &gt; 2 million m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reased racial ten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etition for employ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Impacts in Rural Area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uge numbers of farm foreclosures (over 400,000 between 1929-193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eates migrant famil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rmers move West for 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vironmental iss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production destroys so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*Extreme drought creates ‘Dust Bowl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omeles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813120" cy="30225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648320" y="1676520"/>
            <a:ext cx="3813120" cy="37400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020560" y="547704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OVERVIL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omeless Tent City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Unemployed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3813120" cy="26258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724280" y="2286000"/>
            <a:ext cx="3810240" cy="30351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80880" y="5029200"/>
            <a:ext cx="374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leeping in t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a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53800" y="5435640"/>
            <a:ext cx="447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nemployment Ma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amden, N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oup Lines / Bread Lin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3813120" cy="33400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4956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Waiting for the Trai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eading Not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Pages 386-387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 two causes and two effects for overproduction and under consum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Pages 388-38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 and explain two actions the federal government took that made the Depression wor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ust Bowl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ust Bowl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279600" cy="32004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45080" y="198108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s massive relocation of Plains farmers to West Coa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grant farm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Franklin Delano Roosevel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ed President 1932 (Democrat) – landslide vict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mised “A New Deal for the American Peopl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ee goal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lief for the nee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nomic recov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ancial refo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d radio broadcasts to explain goals to the people – “Fireside chat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First Hundred Day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DR rushed through legislation to help the American peo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ction – close the banks, send in bank examiners and new $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TORE CONFIDEN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Financial Reform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lass-Steagall Banking Act of 1933 – provide federal insurance for individual accounts (FDI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deral Securities Act requires companies t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de complete factual financial information about the compa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eated rules for ‘insider’ in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conomic Reform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gricultural Adjustment Act – raise prices by lowering prod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ional Industrial Recovery Act – promote fair business pract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ional Labor Relations Act (Wagner Act) – protects workers from unfair labor pract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elief for the Need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b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vilian Conservation Corp (CCC) provided jobs for young men building roads, parks, and planting tre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s Progress Administration (WPA) – created jobs for 8 million people in everything from construction to mus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More Relief for the Need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deral Housing Administration – government loans for home mortgag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cial Security Act provid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tirement insurance – supplemental insurance for retirees 65 or ol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employment compens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id to families with children and the disabl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pponents to the New Deal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reme Court Rul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DR tries to “pack” the cou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ants 6 additional Justices added – Congress says NO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merican Liberty Leag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vernment should respect the rights of individuals and property (especially rich individuals!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vil Rights – No legislation to limit discrimination or create equality for African-Americans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Long Term Impacts of the New Deal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cit spending – spending more money on programs than the government receives in reven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anding government’s role in the econom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tection of workers’ righ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ional Labor Relations Bo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7932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eading Not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More Impacts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nking and Finance Re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cial Secur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vironmental prot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nnessee Valley Authority – built dams to generate electricity and prevent floo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304920" y="152280"/>
          <a:ext cx="8534160" cy="647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2280"/>
                    <a:ext cx="853416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1523880" y="152280"/>
          <a:ext cx="6477120" cy="647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52280"/>
                    <a:ext cx="647712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nd of the Depression?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though the New Deal programs relieved the nation’s suffering and provided hope for the American people……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assive spending for equipment and supplies for WWII truly ended the Great Depression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Government Actio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7238880" cy="16765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143000" y="4114800"/>
            <a:ext cx="72388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peculative Bubb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Pages 390-39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a speculative bubbl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are examples of speculative bubbl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peculative Bubb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5438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uses of a Sick Econom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line in Indu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eign Compet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reased Dem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dated machin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line in Home Construc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acts all associated busine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More Caus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ricultural Cri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line in demand for farm goo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lling pr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ising farm foreclos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sy consumer cred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ising debt creates reduced consumer spen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even distribution of inc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re goods than consum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6T21:40:00Z</dcterms:created>
  <dc:creator> </dc:creator>
  <dc:description/>
  <dc:language>en-US</dc:language>
  <cp:lastModifiedBy>School District U46</cp:lastModifiedBy>
  <dcterms:modified xsi:type="dcterms:W3CDTF">2010-12-07T12:57:28Z</dcterms:modified>
  <cp:revision>49</cp:revision>
  <dc:subject/>
  <dc:title>The Great Depression Begins</dc:title>
</cp:coreProperties>
</file>